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0E2-020D-46E4-8595-BA07DB44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F1A-497E-4287-8118-2DAEC7BD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C13-CBDA-4193-83A8-CCAF1BC2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2F7-296A-4C89-A385-2A47D9C4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7D2-0816-4877-9948-435B990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971-36E1-4444-8F73-8DAEAA93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2D6-7DEE-4103-BB6D-41711909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064-6B64-469E-B46E-C3C01A7C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570-8266-40B4-AE40-6D0D6977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D3B-70D4-4222-99ED-99E42CC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EB4-F8E0-491A-B80A-D63CD8EA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4CC-752E-42BA-9C23-337D92F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1CBB-6A76-4E62-B65A-F930F474A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044800" y="754200"/>
            <a:ext cx="629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ный час на тему:       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«Память сердца»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359240" y="4478400"/>
            <a:ext cx="42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Автор:  Троянова  Светлана Пав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996736591"/>
          <p:cNvPicPr/>
          <p:nvPr/>
        </p:nvPicPr>
        <p:blipFill>
          <a:blip r:embed="rId2"/>
          <a:stretch/>
        </p:blipFill>
        <p:spPr>
          <a:xfrm>
            <a:off x="3419640" y="620640"/>
            <a:ext cx="51847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201840" y="836640"/>
            <a:ext cx="5329440" cy="3997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3635280" y="198900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</a:rPr>
              <a:t>Историческая память - это то, без чего не может быть человека нравственного, что делает человека граждан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30069ffbd189"/>
          <p:cNvPicPr/>
          <p:nvPr/>
        </p:nvPicPr>
        <p:blipFill>
          <a:blip r:embed="rId2"/>
          <a:stretch/>
        </p:blipFill>
        <p:spPr>
          <a:xfrm>
            <a:off x="4859280" y="1628640"/>
            <a:ext cx="3673440" cy="3813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2124000" y="54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еоргиевская л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0ca5f26e7e2"/>
          <p:cNvPicPr/>
          <p:nvPr/>
        </p:nvPicPr>
        <p:blipFill>
          <a:blip r:embed="rId3"/>
          <a:srcRect l="0" t="0" r="44648" b="0"/>
          <a:stretch/>
        </p:blipFill>
        <p:spPr>
          <a:xfrm>
            <a:off x="3132000" y="1341360"/>
            <a:ext cx="1168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760920" y="622440"/>
            <a:ext cx="493236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692360" y="511200"/>
            <a:ext cx="2544840" cy="197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2016360" cy="232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867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70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Объект 1"/>
          <p:cNvGraphicFramePr/>
          <p:nvPr/>
        </p:nvGraphicFramePr>
        <p:xfrm>
          <a:off x="2484360" y="404640"/>
          <a:ext cx="6002280" cy="40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04640"/>
                    <a:ext cx="600228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411280" y="29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нтернет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сточники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http://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403280" y="981000"/>
            <a:ext cx="640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Источник шаблона: Шумарина Вера Алексе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читель ГКС(К)ОУ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’’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(К)ОШ №11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VIII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ида.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. Балашова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’’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айт: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http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://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pedsovet.su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4T06:49:26Z</dcterms:modified>
  <cp:revision>15</cp:revision>
  <dc:subject/>
  <dc:title>Слайд 1</dc:title>
</cp:coreProperties>
</file>